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93C-B9B4-4916-882A-765BF3FD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5A8-B4F4-46A6-AA4B-0B39A772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F2F-731D-40BC-B783-958A3045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E30-D047-426C-9972-905C1152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715-A410-470F-ABC3-52450396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831-3B96-47F8-9EED-658EE394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102-8BC9-4829-925E-E97C8467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CF1-365E-46F8-B692-2730B0B5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AC4-0A44-4F81-AA98-52C5642D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B79-A265-4FFF-B8E5-C3D8D171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538-5DE4-4712-AEB0-9215D061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7FF-30D5-4B05-950F-02A6BA7A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A7F7-0647-41D1-8E97-2C9354C15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1864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 FOR IT?</a:t>
            </a:r>
            <a:br>
              <a:rPr sz="4000"/>
            </a:br>
            <a:br>
              <a:rPr sz="1500"/>
            </a:br>
            <a:br>
              <a:rPr sz="1500"/>
            </a:br>
            <a:br>
              <a:rPr sz="15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cision Model Final Project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ll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ler Gay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w 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hew Nire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 Sacc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ir Segalov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MODE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“Our” Perspecti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rd line –  own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rds to go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ed points on own possession if successful = .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, if we do not score after that successful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wn, on average our opponent will have the ball at their own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77120" y="304920"/>
            <a:ext cx="2495520" cy="2495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4686480"/>
            <a:ext cx="396252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HE MODE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Opponent’s Perspective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ir expected scoring from their 45 is 2.1 or -2.1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ces of them having the ball at the 45 = our chance of not scoring from the 10 = 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our successful 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own from the 10 is worth              .94 – (.78 * 2.1) = -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Beri Smither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3809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9480" y="4915080"/>
            <a:ext cx="396252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T 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31320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HE MODE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Scoring after Opponent gets the bal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ly, we looked at the possibility that we score if our opponent failed to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estimated that if the opponent does not score we would start on our own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ed points if we are successful =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ces of scoring = Chance we get the ball back (.78*.61)* our expected points from the 20 (1.4) = .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value of success (part III) =  .94 – 1.64 + .67 = -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 almost the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Carolyn Murphy"/>
          <p:cNvPicPr/>
          <p:nvPr/>
        </p:nvPicPr>
        <p:blipFill>
          <a:blip r:embed="rId2"/>
          <a:stretch/>
        </p:blipFill>
        <p:spPr>
          <a:xfrm>
            <a:off x="6629400" y="0"/>
            <a:ext cx="2517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, we looked at the conversion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, we were on our 10 yard line with 1 yard to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sion rate = 6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if successful = -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if not successful = -4.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value = .66*-.03 +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4.51*(1-.66) = -1.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ompared “going for i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1.55)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nting, assuming a 40 yard net punt (except for when we get past mid-field)…-2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Goal (when applic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: Go for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Lujan Fernandez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 FOR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2971800"/>
            <a:ext cx="761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6095880"/>
            <a:ext cx="20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Yard 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1905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ards-to-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875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ALUE OF A FIELD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7315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ALUE OF P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426960"/>
            <a:ext cx="787572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VID ROMER, UC BERKELEY ECONOMIC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d an economic model looking at 3 years worth of 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arter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ow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dynamic model produced very aggressive results i.e. Go for it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goal so long as w/in 5 yards (go for T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w/in 5 at midfield (go for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w/in 3, on own 10, (go for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n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you for r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 -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5334120"/>
            <a:ext cx="6019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O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th and goal so long as w/in 5 yards (go for 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th and w/in 5 at midfield (go for 1st dow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th and w/in 3, on own 10, (go for 1st dow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458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MER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ring his model to actu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the 1575 4th downs in the sample where analysis implied better to kick, teams went for it only 7 ti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on the 1100 times when model determined it was better to go for it, teams kicked 992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re teams to follow his model they would raise their average probability of winning a game by roughly half a percentage point in the 1st qua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1st quarter makes up about 1/30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all plays, total improvement i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t le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 percentage points hig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VEA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aches are risk a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model does not take into account the current score and time of the g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stical basis for model is not expa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team has its own convers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OUND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rases that we wil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us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Discussion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times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 you for your business”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say, Tex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ease use the microphone when you ask the following questions at the e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like football?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t really working?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Andrew Horn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 we g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05120" y="1862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tball coaches must make critical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wn decisions many times during each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cision often must be made in a matter of mo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ility to quickly analyze key situational data can increase the chance of making good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wn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M Persp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awake all night doing a mod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ntasy persp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awake all night doing a mod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football team desires to win (well, almost every team if we count the Jet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o so the team needs to maximize net scoring (your TD’s &amp; FG’s minus opponents’ scor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o do so it must maintain possession of the 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should the head coach do on a forth d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eidi Klum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i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s betw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ing for 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hoosing the decision that maximizes po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Cindy Crawford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DEL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6248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ize: ne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jec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ance from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sion Stat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ar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Christie Brinkley"/>
          <p:cNvPicPr/>
          <p:nvPr/>
        </p:nvPicPr>
        <p:blipFill>
          <a:blip r:embed="rId2"/>
          <a:stretch/>
        </p:blipFill>
        <p:spPr>
          <a:xfrm>
            <a:off x="6696000" y="0"/>
            <a:ext cx="2448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7T02:30:34Z</dcterms:created>
  <dc:creator>Yair Segalovitz</dc:creator>
  <dc:description/>
  <dc:language>en-US</dc:language>
  <cp:lastModifiedBy>Dan Saccardi</cp:lastModifiedBy>
  <dcterms:modified xsi:type="dcterms:W3CDTF">2005-12-05T19:36:36Z</dcterms:modified>
  <cp:revision>33</cp:revision>
  <dc:subject/>
  <dc:title>Agen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6579546</vt:r8>
  </property>
  <property fmtid="{D5CDD505-2E9C-101B-9397-08002B2CF9AE}" pid="3" name="_AuthorEmail">
    <vt:lpwstr>dps272@stern.nyu.edu</vt:lpwstr>
  </property>
  <property fmtid="{D5CDD505-2E9C-101B-9397-08002B2CF9AE}" pid="4" name="_AuthorEmailDisplayName">
    <vt:lpwstr>daniel saccardi</vt:lpwstr>
  </property>
  <property fmtid="{D5CDD505-2E9C-101B-9397-08002B2CF9AE}" pid="5" name="_EmailSubject">
    <vt:lpwstr>Group 11 Ppt Presentation</vt:lpwstr>
  </property>
</Properties>
</file>